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873EBC-244A-4269-840F-64AC45D9236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7B47EE-062B-45CB-8B22-D72A18A332F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DC3C88-70CC-42A4-9E64-814393222C6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CFB1D1-9127-47BD-8581-20E392E51C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C89254-42D2-46B2-8BA2-370A5F958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77ABE6-1A52-4EA1-B2AB-5D9F37E36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DEA2AA-D6DF-4C15-A2C7-E5F7ECD6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A0D58-5364-4210-826E-9AD827DAF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BF8710-06B9-4CF7-8496-53B30A705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1EC8F1-A47F-4826-A9A3-F7BEFF0D2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768F3C-F357-4D0A-A918-F0DAC488F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67243-07FC-4BCD-83E0-F4C99BC8C43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976508-2AEF-481D-B87D-80C7BB9B9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7B6BBB-2586-4F23-A47C-59EF87441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C9AE6B-18AB-4625-8FFB-8629ADB61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EB8D6A-C744-4A0D-AB5F-6A1B86D75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12436-F207-44FC-9585-EA7F6500D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5DAA6E-19DA-4791-9FB8-0E6455C2202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1D78C-BABF-47D5-8CB5-D4C43692513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CE834-F708-4F87-AD13-B20C85DA97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33520" y="2286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036A01-5DFC-4B07-A9BB-B1A3160152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1487F-15C5-4695-B238-3E7D1680D03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236238-7937-4AC1-AFFD-2334101151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0CA7C8-179A-4DC0-A8B5-91F43B27E3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172200"/>
            <a:ext cx="4953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99963-0AC2-4E64-AD9F-A4A2E1E9235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36C31-0F12-43E7-843F-7AD55D92F4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0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9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1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2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" name=""/>
          <p:cNvSpPr/>
          <p:nvPr/>
        </p:nvSpPr>
        <p:spPr>
          <a:xfrm>
            <a:off x="3581280" y="1828800"/>
            <a:ext cx="495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Visual Ai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938E62-EDFD-471B-9431-ACB193F3094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393840" y="946080"/>
            <a:ext cx="8356320" cy="4965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C4FA97-4796-41F7-8484-549DBB2643A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03040" y="546120"/>
            <a:ext cx="8737920" cy="576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94FEDB-A16B-46A4-97C1-7A0D739CB34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0440" y="635040"/>
            <a:ext cx="8763120" cy="558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C0836-DCC3-4BB9-8049-8888CFF04B5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138240" y="550800"/>
            <a:ext cx="8866080" cy="5754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3D31E-EFC1-4783-8339-F8AAD50B58A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2209680" y="457200"/>
            <a:ext cx="4459320" cy="58388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4C590-F8F9-4E88-BA41-48EC6502A30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438280" y="457200"/>
            <a:ext cx="4232520" cy="5486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Visual Aids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0C2E52-EBCF-4967-A550-C6EE5C953C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2T22:26:15Z</dcterms:created>
  <dc:creator>Robin Barteluk</dc:creator>
  <dc:description/>
  <dc:language>en-US</dc:language>
  <cp:lastModifiedBy>bergera</cp:lastModifiedBy>
  <dcterms:modified xsi:type="dcterms:W3CDTF">2009-05-19T09:59:36Z</dcterms:modified>
  <cp:revision>2</cp:revision>
  <dc:subject/>
  <dc:title>Quality Manual Structure and Contents</dc:title>
</cp:coreProperties>
</file>